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054F4-048B-4EF2-B3D1-5909EC0EA8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EEFAD-C7D1-4130-BB1C-9A3DF4C4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3AA07B-B5F0-49A7-AA80-BFB34DB5C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07EA7-5C61-4B47-AF2A-3C8D734F61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C0797-2F1C-493B-828B-B2982B7A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22061-3AF3-4D83-B59F-2F8CAB12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4E7B6-73EA-4F91-BAE6-0FEC28C1B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9EFB2-597D-48F6-BB0C-B95896AFB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20442-C91A-4010-B9A1-A8CEDFA0E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50FB6-A8B5-4E2E-8990-456CEE08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C1C67-39A3-4AB4-83CB-89F4A4D56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AF3A7-984D-4998-AAA5-E2EA880E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6ADFB-4ACC-4BF0-9425-BD547BA62A1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十五章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妊娠滋养细胞疾病   患者的护理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56760" y="157176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葡萄胎确诊后应及时清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刮出物送组织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黄素化囊肿急性扭转可手术切除。高危者给予预防性化疗。年龄较大且无生育要求者可行子宫切除术，保留双侧卵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42560" y="1500120"/>
            <a:ext cx="900108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口腔黏膜改变的危险   与化疗所致溃疡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480" y="1371600"/>
            <a:ext cx="8629560" cy="51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变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做好清宫术前后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性化疗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防感染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生活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时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随访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二节     妊娠滋养细胞肿瘤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E6A4D-D897-445D-A922-7BE2D385F03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71320" y="1000080"/>
            <a:ext cx="81961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肿瘤是滋养细胞恶性病变，包括侵蚀性葡萄胎、绒癌和胎盘部位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侵蚀性葡萄胎是指葡 萄胎组织侵入子宫肌层引起组织破坏或转移至子宫以 外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绒毛膜癌是一种高度恶 性的肿瘤，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发生于葡萄胎之后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5" name="Picture 6" descr="1"/>
          <p:cNvPicPr/>
          <p:nvPr/>
        </p:nvPicPr>
        <p:blipFill>
          <a:blip r:embed="rId1"/>
          <a:stretch/>
        </p:blipFill>
        <p:spPr>
          <a:xfrm>
            <a:off x="6643800" y="4929120"/>
            <a:ext cx="1357200" cy="15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36A7-0EE4-460D-B832-88FB09BD943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原发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复旧不全或不均匀增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卵巢黄素化囊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  如腹痛、假孕症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3CF4-611B-4245-9553-6D489EB0F81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转移灶表现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    咳嗽或反复咯血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    紫蓝色结节，破溃后可大出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肝转移    可有上腹部或肝区疼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    为死亡的主要原因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EBF0-C65C-4609-BF81-E7814D6F3B6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血和尿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β-HCG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胸部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X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和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I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组织学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B1F0-27A0-4D75-8EC8-38A4EFD2B91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史及家族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如服用药物情况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843280" y="1915920"/>
            <a:ext cx="39607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葡萄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妊娠滋养细胞肿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 algn="ctr">
              <a:lnSpc>
                <a:spcPct val="2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化疗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8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09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0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1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2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AutoShape 9"/>
          <p:cNvSpPr/>
          <p:nvPr/>
        </p:nvSpPr>
        <p:spPr>
          <a:xfrm>
            <a:off x="1763640" y="3141720"/>
            <a:ext cx="687600" cy="593640"/>
          </a:xfrm>
          <a:prstGeom prst="hexagon">
            <a:avLst>
              <a:gd name="adj" fmla="val 28957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15" name="Group 11"/>
          <p:cNvGrpSpPr/>
          <p:nvPr/>
        </p:nvGrpSpPr>
        <p:grpSpPr>
          <a:xfrm>
            <a:off x="1835280" y="4005360"/>
            <a:ext cx="686880" cy="593640"/>
            <a:chOff x="1835280" y="4005360"/>
            <a:chExt cx="686880" cy="593640"/>
          </a:xfrm>
        </p:grpSpPr>
        <p:sp>
          <p:nvSpPr>
            <p:cNvPr id="116" name="AutoShape 12"/>
            <p:cNvSpPr/>
            <p:nvPr/>
          </p:nvSpPr>
          <p:spPr>
            <a:xfrm>
              <a:off x="1840680" y="401544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1835280" y="4005360"/>
              <a:ext cx="681480" cy="583560"/>
            </a:xfrm>
            <a:prstGeom prst="hexagon">
              <a:avLst>
                <a:gd name="adj" fmla="val 29195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8" name="AutoShape 14"/>
            <p:cNvSpPr/>
            <p:nvPr/>
          </p:nvSpPr>
          <p:spPr>
            <a:xfrm>
              <a:off x="1875240" y="4040280"/>
              <a:ext cx="599040" cy="513360"/>
            </a:xfrm>
            <a:prstGeom prst="hexagon">
              <a:avLst>
                <a:gd name="adj" fmla="val 29173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9" name="Text Box 15"/>
          <p:cNvSpPr/>
          <p:nvPr/>
        </p:nvSpPr>
        <p:spPr>
          <a:xfrm>
            <a:off x="1979640" y="407664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Line 19"/>
          <p:cNvSpPr/>
          <p:nvPr/>
        </p:nvSpPr>
        <p:spPr>
          <a:xfrm>
            <a:off x="2556000" y="371628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Line 20"/>
          <p:cNvSpPr/>
          <p:nvPr/>
        </p:nvSpPr>
        <p:spPr>
          <a:xfrm>
            <a:off x="2556000" y="45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DDE9-340E-4F2E-AD23-58D10ACC894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五）治疗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原则是以化疗为主，手术、放疗为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根据临床分期、预后评分来制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7374F-AFC2-4553-B871-10E12179561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诊断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反复阴道出血、化疗导致抵抗力降低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预感性悲哀   与病程长、预后不良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活动无耐力  与腹痛、转移灶症状及化疗副作用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   与化疗引起胃肠道不适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1F62-EAF9-4B83-A4EE-FA6BDB547E7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 观察病情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症状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肺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吸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配合治疗，大量咯血者防窒息和休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观察病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56760" y="198072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转移患者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卧床休息，做好抢救准备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禁做阴道检查和窥阴器检查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破溃大出血时，配合抢救（抗休克和感染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4AC6-61D9-4128-879A-0C5A25055B74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脑转移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病情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遵医嘱治疗   如补液、止血、吸氧等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预防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偏瘫、昏迷者按常规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及时做好检查配合    如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腰穿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FBB15-9357-494F-B780-3454E8B3D48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妊娠滋养细胞肿瘤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生活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、随访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</a:t>
            </a: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第三节     化疗患者的护理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67BA-8D1B-41C5-97B5-B8A0FBA0CE5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概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应用化学药物治疗的方法称为化学疗法，简称化疗。化疗和手术治疗、放射治疗是目前治疗恶性肿瘤的三大手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所有肿瘤中对化疗最敏感的一种，总治愈率超过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90%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FCDE-99EC-4E1F-A135-55B5BC7A283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作用机制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影响去氧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代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直接与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作用干扰其复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抑制信使核糖核酸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mRNA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的合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纺锤丝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阻止蛋白质的合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4EBC-F41C-4395-A2BE-3E4E8A02C145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黑体"/>
              </a:rPr>
              <a:t>概  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83390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滋养细胞疾病是一组来源于胎盘绒毛滋养细胞的疾病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根据滋养细胞增生的程度、侵蚀能力、有无绒毛结构及生物学特性，可分为葡萄胎、侵蚀性葡萄胎、绒毛膜癌和胎盘部位妊娠滋养细胞肿瘤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49976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化疗药物种类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烷化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代谢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抗生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抗肿瘤植物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化疗药物的应用原则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的病理诊断和分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肿瘤细胞的分裂周期化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根据患者的身体情况选择化疗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使用增敏药物和预防副作用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的选择需考虑患者的经济情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常用给药方法及化疗方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给药方法    静脉滴注、肌内注射、口服给药、腹腔内给药及动脉插管局部灌注、靶向治疗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方案    低危患者可选单一药物化疗；高危者选择联合化疗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B2819-7065-472C-B601-0D6F4F02C07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71680" y="1356840"/>
            <a:ext cx="80532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化疗常见的不良反应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近期毒性反应   分为局部反应和全身性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远期毒性反应   如生殖功能障碍及致癌致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并发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B9C53-450D-4C02-B460-9213D980635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7120" y="1857240"/>
            <a:ext cx="833904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化疗前血常规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肝、肾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检查    如尿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D58B-BBED-4843-9950-8D9BB7270688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99680" y="1857240"/>
            <a:ext cx="819612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体重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与生活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既往病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四）心理社会状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C4F9-60CF-4FD1-BB35-39F45A9DC62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-360" y="1857240"/>
            <a:ext cx="90010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要护理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合作性问题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营养失调：低于机体需要量  与化疗所致的恶心、呕吐和食欲下降等消化道反应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有感染的危险   与化疗引起骨髓抑制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自我形象紊乱   与化疗所致的脱发有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潜在并发症：出血   与化疗引起骨髓抑制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6CD7-4882-4693-9906-F1F64270A83B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286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措施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一般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休息，注意饮食；保持会阴清洁，防止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严密观察病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 接受化疗患者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准确测量体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正确使用药物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合理使用静脉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45FA7-0D4C-4125-B15D-8EE95D104C9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71680" y="1857240"/>
            <a:ext cx="8124480" cy="44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常见毒副反应的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骨髓抑制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胃肠道不良反应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口腔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-142920" y="250020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d0d0d"/>
                </a:solidFill>
                <a:latin typeface="Verdana"/>
                <a:ea typeface="宋体"/>
              </a:rPr>
              <a:t>                     </a:t>
            </a:r>
            <a:r>
              <a:rPr b="1" lang="zh-CN" sz="3600" spc="-1" strike="noStrike">
                <a:solidFill>
                  <a:srgbClr val="0d0d0d"/>
                </a:solidFill>
                <a:latin typeface="Verdana"/>
                <a:ea typeface="宋体"/>
              </a:rPr>
              <a:t>第一节     葡萄胎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4FB44-8698-4ACD-A3CA-C9244037B4A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化疗患者的护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-360" y="1500120"/>
            <a:ext cx="89298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三）健康教育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指导患者给药剂量等，注意药物的储存及不良反应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鼓励少量多餐，注意饮食和休息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日常生活方面注意清洁，尽量避免去公共场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）如白细胞计数低于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1.0×1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Verdana"/>
                <a:ea typeface="宋体"/>
              </a:rPr>
              <a:t>9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/L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，则需进行保护性隔离，并告知其重要性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5335-884B-4BAC-B262-157BBC0D5C7A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85480" y="857160"/>
            <a:ext cx="864396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定义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是妊娠滋养细胞的良性病变，主要为胎盘绒毛滋养细胞增生、间质水肿，形成大小不一的水泡，相互间借蒂连成串，形如葡萄而得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葡萄胎可分为完全性葡萄胎和部分性葡萄胎。其发生的原因尚未完全清楚，可能与异常受精有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1"/>
          <a:stretch/>
        </p:blipFill>
        <p:spPr>
          <a:xfrm>
            <a:off x="1857240" y="4857840"/>
            <a:ext cx="1857600" cy="1627200"/>
          </a:xfrm>
          <a:prstGeom prst="rect">
            <a:avLst/>
          </a:prstGeom>
          <a:ln w="0">
            <a:noFill/>
          </a:ln>
        </p:spPr>
      </p:pic>
      <p:grpSp>
        <p:nvGrpSpPr>
          <p:cNvPr id="133" name="Group 3"/>
          <p:cNvGrpSpPr/>
          <p:nvPr/>
        </p:nvGrpSpPr>
        <p:grpSpPr>
          <a:xfrm>
            <a:off x="5572080" y="4786200"/>
            <a:ext cx="2000160" cy="1698840"/>
            <a:chOff x="5572080" y="4786200"/>
            <a:chExt cx="2000160" cy="1698840"/>
          </a:xfrm>
        </p:grpSpPr>
        <p:sp>
          <p:nvSpPr>
            <p:cNvPr id="134" name="Text Box 4"/>
            <p:cNvSpPr/>
            <p:nvPr/>
          </p:nvSpPr>
          <p:spPr>
            <a:xfrm>
              <a:off x="5771880" y="6276240"/>
              <a:ext cx="1650240" cy="208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Calibri"/>
                  <a:ea typeface="宋体"/>
                </a:rPr>
                <a:t>15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宋体"/>
                  <a:ea typeface="宋体"/>
                </a:rPr>
                <a:t>完全性葡萄胎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pic>
          <p:nvPicPr>
            <p:cNvPr id="135" name="Picture 5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5572080" y="4786200"/>
              <a:ext cx="2000160" cy="1450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72AE-4ACE-4D91-B89F-A4194F05923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9680" y="1428480"/>
            <a:ext cx="8124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【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评估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临床表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完全性葡萄胎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停经后阴道流血     为最常见的症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子宫异常增大、变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呕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妊娠高血压子痫前期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：卵巢黄素化囊肿、腹痛、甲亢征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85840" y="157176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部分性葡萄胎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其他症状    不如完全性葡萄胎典型，易误诊，仅在刮宫后经组织病理检查方能确诊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65CD-0AD4-4700-89BE-3E0E22DC72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71720" y="214200"/>
            <a:ext cx="779616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9680" y="1642680"/>
            <a:ext cx="8196120" cy="46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辅助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绒毛膜促性腺激素（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HCG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）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超声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流式细胞仪测定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多普勒胎心检查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 如血常规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葡萄胎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56760" y="142884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三）与疾病相关的健康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年龄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月经及妊娠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饮食习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家族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．其他   如有无采取口服避孕方式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11:27Z</dcterms:modified>
  <cp:revision>104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